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2F6-B885-4F85-B1F9-DE56469F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E96-3676-4AD7-94B1-1EFB0EA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158-0C3B-4519-895D-F4D4F124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B3C-BC2B-4A50-BDD7-A8018AFA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936-E29F-4E48-91B7-F871FF2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7DF-60B8-4FFB-A351-B53EEB7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975-7279-498A-9A96-AA42A28A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D73-B408-4F86-B6D9-04FF06E7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37C-275B-4E76-854F-A31A0F3F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925-0021-472F-BCF5-8EEF1C8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3B4-880D-411F-AC97-4978E88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E81-BAEA-4B87-8F58-DA64A18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554-E099-4EFE-8E1C-62FE707B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win7我的文档-桌面-收藏夹\Desktop\图片3.pn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533520" y="4572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8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Unit 10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800600" y="1676520"/>
            <a:ext cx="365760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lors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5800" y="373392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esson 2 Her cat is blac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QQ截图20130811113746"/>
          <p:cNvPicPr/>
          <p:nvPr/>
        </p:nvPicPr>
        <p:blipFill>
          <a:blip r:embed="rId1"/>
          <a:stretch/>
        </p:blipFill>
        <p:spPr>
          <a:xfrm>
            <a:off x="609480" y="2895480"/>
            <a:ext cx="169560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QQ截图20130811113708"/>
          <p:cNvPicPr/>
          <p:nvPr/>
        </p:nvPicPr>
        <p:blipFill>
          <a:blip r:embed="rId2"/>
          <a:stretch/>
        </p:blipFill>
        <p:spPr>
          <a:xfrm>
            <a:off x="2819520" y="2895480"/>
            <a:ext cx="205416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QQ截图20130811113733"/>
          <p:cNvPicPr/>
          <p:nvPr/>
        </p:nvPicPr>
        <p:blipFill>
          <a:blip r:embed="rId3"/>
          <a:stretch/>
        </p:blipFill>
        <p:spPr>
          <a:xfrm>
            <a:off x="5334120" y="3200400"/>
            <a:ext cx="3429000" cy="2817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922320" y="380880"/>
            <a:ext cx="49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What color are the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80120" y="1371600"/>
            <a:ext cx="45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Can you see the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QQ截图20130811113746"/>
          <p:cNvPicPr/>
          <p:nvPr/>
        </p:nvPicPr>
        <p:blipFill>
          <a:blip r:embed="rId1"/>
          <a:stretch/>
        </p:blipFill>
        <p:spPr>
          <a:xfrm>
            <a:off x="533520" y="685800"/>
            <a:ext cx="2514600" cy="4857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3354120" y="1219320"/>
            <a:ext cx="50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Can you see a snak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507120" y="2286000"/>
            <a:ext cx="424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Let me see··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Oh, it’s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It’s a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green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 sn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QQ截图20130811113708"/>
          <p:cNvPicPr/>
          <p:nvPr/>
        </p:nvPicPr>
        <p:blipFill>
          <a:blip r:embed="rId1"/>
          <a:stretch/>
        </p:blipFill>
        <p:spPr>
          <a:xfrm>
            <a:off x="304920" y="304920"/>
            <a:ext cx="2055600" cy="3276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201480" y="1523880"/>
            <a:ext cx="50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Can you see a snak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92840" y="2743200"/>
            <a:ext cx="668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Let me see··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Oh, it’s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It’s a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yellow and black 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sn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QQ截图20130811113733"/>
          <p:cNvPicPr/>
          <p:nvPr/>
        </p:nvPicPr>
        <p:blipFill>
          <a:blip r:embed="rId1"/>
          <a:stretch/>
        </p:blipFill>
        <p:spPr>
          <a:xfrm>
            <a:off x="0" y="0"/>
            <a:ext cx="3886200" cy="319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735000" y="3124080"/>
            <a:ext cx="50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Can you see a snak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860280" y="4114800"/>
            <a:ext cx="438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Let me see··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Oh, it’s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It’s a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brown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 sn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QQ截图20130811113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QQ截图20130811113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QQ截图201308111138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QQ截图20130811113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QQ截图201308111138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D:\win7我的文档-桌面-收藏夹\Desktop\图片3.pn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 rot="21286800">
            <a:off x="1608120" y="2685600"/>
            <a:ext cx="554976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1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1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Q截图201308111116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QQ截图201308111127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QQ截图201308111129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QQ截图20130811113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Q截图20130811113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QQ截图20130811113241"/>
          <p:cNvPicPr/>
          <p:nvPr/>
        </p:nvPicPr>
        <p:blipFill>
          <a:blip r:embed="rId1"/>
          <a:stretch/>
        </p:blipFill>
        <p:spPr>
          <a:xfrm>
            <a:off x="380880" y="252360"/>
            <a:ext cx="8763120" cy="660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57200" y="1600200"/>
            <a:ext cx="411480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76920" y="1523880"/>
            <a:ext cx="411480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7200" y="3886200"/>
            <a:ext cx="411480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800600" y="3962520"/>
            <a:ext cx="419112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57200" y="6248520"/>
            <a:ext cx="411480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800600" y="6248520"/>
            <a:ext cx="4114800" cy="380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QQ截图20130811113248"/>
          <p:cNvPicPr/>
          <p:nvPr/>
        </p:nvPicPr>
        <p:blipFill>
          <a:blip r:embed="rId2"/>
          <a:stretch/>
        </p:blipFill>
        <p:spPr>
          <a:xfrm>
            <a:off x="0" y="0"/>
            <a:ext cx="3305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QQ截图20130811113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735000" y="152388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810600" y="297180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810600" y="42670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10240" y="571500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QQ截图20130811113508"/>
          <p:cNvPicPr/>
          <p:nvPr/>
        </p:nvPicPr>
        <p:blipFill>
          <a:blip r:embed="rId1"/>
          <a:stretch/>
        </p:blipFill>
        <p:spPr>
          <a:xfrm>
            <a:off x="0" y="0"/>
            <a:ext cx="4572000" cy="3468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427680" y="3733920"/>
            <a:ext cx="56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What is the book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191560" y="1371600"/>
            <a:ext cx="346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snak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47120" y="4572000"/>
            <a:ext cx="61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ere are so many </a:t>
            </a:r>
            <a:r>
              <a:rPr b="0" i="1" lang="en-US" sz="4000" spc="-1" strike="noStrike">
                <a:solidFill>
                  <a:srgbClr val="0000ff"/>
                </a:solidFill>
                <a:latin typeface="Comic Sans MS"/>
              </a:rPr>
              <a:t>snakes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35400" y="5486400"/>
            <a:ext cx="645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hey are in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different colors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03:13:16Z</dcterms:created>
  <dc:creator/>
  <dc:description/>
  <dc:language>en-US</dc:language>
  <cp:lastModifiedBy/>
  <dcterms:modified xsi:type="dcterms:W3CDTF">2015-04-29T01:23:2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